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1720-4165-4760-A03B-398F6289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D9F-57A0-4A71-959C-D2F7B889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38F-176B-4EF3-BD18-7AA2DCEC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0C33-9D28-49BD-B74B-FB283C74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94F2-AF98-4269-9237-0232AD34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D8FE-E64F-4E3A-9116-41B012C7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C9DD-176B-40CD-AFB4-9783FE71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2B1E-C5AB-48A5-BCE9-E282F4BB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4CCB-446B-43D1-96D7-956047EF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5599-6273-4244-AA14-947FDA19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3243-32CB-441C-B1FF-80BB421C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9B3E-B1D3-48A8-BDDC-6357ABF5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FA32-A9D3-4EE1-AC59-6AC639CC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3560-7B2D-4019-8DDB-8CEE76B2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A1A4-F18A-4737-947D-D18EB01A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E273-4FB8-4AFE-81F5-8952DFC8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7B31-F9D6-4005-9C73-58AA76F5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B45-3DB2-4B95-9282-DA59B858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60A6-10E1-4EB1-BBD5-9DFF910E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0680-B891-421D-B9C0-975EBB76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3C3-11AD-422A-87BF-845ECFE5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FBFD-49E5-4A19-95D0-4D1594B5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B10-27EB-404C-B349-C96F8642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0CBA-0198-49DD-B52A-9909488D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0231-46C6-43A9-B4BA-46CBA7399716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A41C-8F56-4986-AAAE-C7440E7A9B2E}" type="slidenum">
              <a:rPr b="0" lang="en-AU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68c7"/>
            </a:gs>
            <a:gs pos="100000">
              <a:srgbClr val="1a2f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Early Childhood Studies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ild Development and Pla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5 stages of social play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ffffff"/>
                </a:solidFill>
                <a:uFillTx/>
                <a:latin typeface="Tahoma"/>
              </a:rPr>
              <a:t>Solitary play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– 0-18mths. Play alone with adult nearby; explore environment; adult initiated play – clap hands; aware of other children but interaction is limited / accident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ffffff"/>
                </a:solidFill>
                <a:uFillTx/>
                <a:latin typeface="Tahoma"/>
              </a:rPr>
              <a:t>Parallel Play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– 18-30 mths. Play alongside. Awareness but no real attempt to play or communicate together. Play intently, al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5 stages of play – cont’d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ssociative pl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2 ½ + - copying other child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iberate and extended interaction between child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nded time but limited 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ginning to watch older child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5 stages of play (cont’d)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operative Pl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3 yrs + most children able to play actively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ide together what to do and pl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materials and id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unication establ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tionship ev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5 stages of play (cont’d)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ffffff"/>
                </a:solidFill>
                <a:uFillTx/>
                <a:latin typeface="Tahoma"/>
              </a:rPr>
              <a:t>Competitive play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– 6+ children able to play together in games with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nderstand that rules games have win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nderstand not everyone can be win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15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Developmental Stages of play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70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ant to match play activities with developmental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ants – simple items that stimulate senses and encourage expl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dlers – physical activities – mobile and energe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-schoolers – develop new abilities – make things they are proud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rly primary – longer attention spans – more sustained games - adult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Types of Play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ntaneous play and structured pl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chool – more structured play – both still importa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 types of play: creative; discovery or exploratory; imaginative or pretend; manipulative; physical; soc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be involved in more than one type of play at a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reative play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resses ideas or emotions to make something origi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s children discover properties of materials as well as fine motor 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es experimentation and explo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 satisfying and hence increases self este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 product not important – should always be praised for their effor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Discovery play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children to find out about objects – size; shape; colour; texture; 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s can break – learns to take 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s all senses – sight, taste, smell, touch, hea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involve climbing a tree, digging in sand, pulling a toy apart or putting a hand in the honey j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Imaginative play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magines to be someone else or somewhere el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Often those around must imagine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ay talk to toys or objects, make up manes using charact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ct out using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elps them understand behaviour and roles eg. Shopping, families, doc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Develop communication and social ski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llows them to act out fears and fantas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Manipulative play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olves working with the hands in a skilful 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ordinates hands, eyes and 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s shapes, to sort and think logical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s fine and gross motor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se of satisfaction from achie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Physical play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dy work or exerc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ning, chasings, crawling, jumping, balancing, ball games, riding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 muscle control and coord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fit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Social play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ying together is social pl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 sharing, communication, acceptable behaviour, belong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 consequences of anti-social behavi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erve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 about relationshi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7:25:38Z</dcterms:created>
  <dc:creator>DEET</dc:creator>
  <dc:description/>
  <cp:keywords/>
  <dc:language>en-US</dc:language>
  <cp:lastModifiedBy>DEET</cp:lastModifiedBy>
  <dcterms:modified xsi:type="dcterms:W3CDTF">2009-06-01T09:03:12Z</dcterms:modified>
  <cp:revision>13</cp:revision>
  <dc:subject/>
  <dc:title>Early Childhood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33</vt:lpwstr>
  </property>
</Properties>
</file>